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3CF-1EB6-4E1F-BC85-538ED8BB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A37-29C9-4479-90EA-F839A34E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2B8-AD7F-4F50-AAF0-71DC0FE2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440-60FF-430D-B8AA-21E7FBF3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86B-CCC5-4230-91E3-B4BDD5AC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D2D-7B10-43A2-9B21-1679934E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9E8-0A65-4E23-99BF-86872CB7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B3B7-347E-4407-A630-481806F3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116-657A-4A19-A6D0-B28B843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11A-7B99-432E-A37B-D8061020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C22A-87D0-4487-BF72-F173BB3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7F7-ECBE-41EB-A204-ED3A385D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AFBE-8C7A-40A0-9AC7-E06919EE0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520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eeeee"/>
                </a:solidFill>
                <a:latin typeface="verdana"/>
              </a:rPr>
              <a:t>Chado on Rail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840" y="2437920"/>
            <a:ext cx="9434520" cy="69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a framework to simplify development on the Chado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Justin Reese / Chris Chil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Quick rails anatomy les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64560" cy="71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odel files live in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models/[model_name]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ontroller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controllers/[model_name]_controller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View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views/[model_name]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One important config fi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config/database.yml - describes db con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Legacy Chado support - things to chan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6456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"Feature" model as an 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look for features in table "feature", not table "features"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table_name "feature"  #default is "fea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use "feature_id" not "id" as primary ke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primary_key "feature_id"   # default is "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rebuchet ms"/>
              </a:rPr>
              <a:t>Repeat for each Chado tables we wil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Hooking up tables to each other ("associations"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32040"/>
            <a:ext cx="96645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Feature -- belongs to --&gt; 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vterm &lt;-- has many --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as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belongs_to :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cvterm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has_many :features, :foreign_key =&gt; "type_id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88056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We now have a powerful Chado conso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69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xample: show me the name of the CV for the last thing loaded into Chado feature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(try out by starting up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 trunk/script/console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)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Before, using SQ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SELECT cv.name FROM cv, cvterm, feature WHERE cv.cv_id = cvterm.cv_id AND cvterm.cvterm_id = feature.type_id ORDER BY feature_id DESC LIMIT 1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fter, using Rai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Feature.find(:last).cvterm.cv.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Example app: 5 min. Chado gene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4224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model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don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controlle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make controller, write method to load up gene of interest into variabl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[~/chado_on_rails/trunk] jtr4v$ ./script/generate controller 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controll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views/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functional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unit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controllers/gene_controll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functional/gene_controller_test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helpers/gene_help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unit/helpers/gene_helper_test.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then add this to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controllers/gene_controller.rb: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def sh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   </a:t>
            </a: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@gene = Feature.find(params[:i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view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add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views/gene/show.html.erb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, present some gene info to user (next sl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Simple view for gene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320480"/>
            <a:ext cx="96645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header'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if @gene.nil?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There is no record for feature id &lt;%= params[:id]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lse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ul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Name: &lt;%= @gene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Uniquename: &lt;%= @gene.unique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Feature id: &lt;%= @gene.feature_id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Cvterm: &lt;%= @gene.cvterm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Organism: &lt;%= "#{@gene.organism.genus} #{@gene.organism.species}"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Time last modified: &lt;%= @gene.timelastmodified %&gt;&lt;/li&gt; 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/ul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nd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br/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footer' %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0152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Chado on Rails + Chado db + 19 lines of code = gene pag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520" y="2844720"/>
            <a:ext cx="992520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81360" y="1622520"/>
            <a:ext cx="79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http://0.0.0.0:3000/gene/show/1703004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10116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Mature BGD genes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http://genomes.arc.georgetown.edu/bovine/genepages/genes/BT106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440" y="1828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20268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es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112400"/>
            <a:ext cx="9786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ships with sophisticated testing suite (a whole other tal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on Rails contains unit tests for associations, other reality che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Easy to add more sophisticated tests (functional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rake 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4064040"/>
            <a:ext cx="9671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Cach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840" y="5181480"/>
            <a:ext cx="93200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dd one line in controller to cache gene pag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caches_page :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-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More sophisticated caching (expire cache after x days, caching expensive queries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Deployment - a non-iss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Used to be a major weakness of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Passenger Phusion + Capistrano provide dead-easy deployment, plays nicely with Apache and Ng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Fairly easy to set up staging environments to try out new rele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160" y="406080"/>
            <a:ext cx="967104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Some links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1021248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These sl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http://tinyurl.com/chadoon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Source code, have a l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vn co http://chadoonrails.rubyforge.org/svn/trunk</a:t>
            </a:r>
            <a:r>
              <a:rPr b="0" lang="en-US" sz="29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Other applications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71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Powerful framework for the development of applications on top of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Ideas for possible applica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elp available from me, Chris, Rails communit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ttp://rubyforge.org/projects/chadoonrails/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there's another dead project by the same nam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Justin Ree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ustaddcoffee@gmail.c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Chris Childer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genetics.guy@gmail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Thank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78000" y="182880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Chil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Els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ay Sundara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arren Ha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Monica Mu</a:t>
            </a:r>
            <a:r>
              <a:rPr b="0" i="1" lang="en-US" sz="2700" spc="-1" strike="noStrike">
                <a:solidFill>
                  <a:srgbClr val="cccccc"/>
                </a:solidFill>
                <a:latin typeface="Arial"/>
              </a:rPr>
              <a:t>ñoz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Torr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teve S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nna Benne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hu Ta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on V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he Big Ide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804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  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databa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de facto standard in bioinforma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   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            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                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          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  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on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      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    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Your applic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gene pages, GFF loader, anything that needs to talk to Cha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6160" y="203040"/>
            <a:ext cx="9671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is time last year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080" y="1108080"/>
            <a:ext cx="96570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Bovine Genome Database status tal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cc"/>
                </a:solidFill>
                <a:uFillTx/>
                <a:latin typeface="Trebuchet MS"/>
              </a:rPr>
              <a:t>no gene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27280" y="1727280"/>
            <a:ext cx="62863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How to implement gene pages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couldn't find existing tool that fit ou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roll our own?</a:t>
            </a: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use Ruby on Rai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203040"/>
            <a:ext cx="96724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e case for Ruby on Rail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" y="1117080"/>
            <a:ext cx="10109520" cy="64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implement object-relational mapping for Chado database schema as legacy sch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what we then get for fre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ature MVC framework for fast web development on top of 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Rake tasks (a powerful tool for automating task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apistrano (another powerful tool for deployment, automating tasks)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Powerful debugging (stop request in stack wherever you wa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Sophisticated testing 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uch mo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BGD, Beebase, HymenopteraBase, other groups can build on th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ub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3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"Perl's younger prettier sister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syntactic suga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, easy metaprogramming, pure object-oriented language, other sundry awesom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great 15 minute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tryruby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funny, longer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mislav.uniqpath.com/poignant-guid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ails legacy database supp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724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paradigm: "convention over configuratio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Model name "Feature" == table name "feature</a:t>
            </a:r>
            <a:r>
              <a:rPr b="1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s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doesn't follow Rails conv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Feature model == Chado table name "featur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Legacy support for Chado means overriding these conventions, explaining to Rails how to talk to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MVC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320840"/>
            <a:ext cx="6377040" cy="371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80" y="4673520"/>
            <a:ext cx="102078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Model - the representation of your data (doesn't change much after develop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Controller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"business logic", i.e. the logic to retrieve and process information coming and going from view (changes more seld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View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presentation of information to user (changes every 3 second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